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0E4-5E70-4C64-8ACF-C4ED60C6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05B-81CE-476E-8E1F-B09878F3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776-7639-40E0-A3D8-5C03AA6F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664-5168-41F1-86AA-F476025C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2EB-6688-4127-BCA6-5F51B70A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4C7-0FA2-4A89-BB70-9D1EA163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044-796E-4BDE-AAB2-0E27E1AF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CBE-19DC-4380-9919-69411100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A4F-7C40-4CF9-92F7-AB11F831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F75-6D15-4259-9298-B99768F8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C73-BA57-4D2E-B8E0-B6815E25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5BF-34BA-4150-9746-1343B4F1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BB6D-FBA0-4C80-9C8B-4DC86BBAB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57360"/>
            <a:ext cx="8497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1) To revise animal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2) To brainstorm countries where they talk Spanish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3) to revise numbers 1-3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4) To learn numbers 1 to a mill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5) Play fling the teach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och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nov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628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3573360"/>
            <a:ext cx="11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69228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400536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2060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157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508464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2133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93080" y="5589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292428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40720" y="18900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e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581360"/>
            <a:ext cx="8351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ento y un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dos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92360" y="260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3068640"/>
            <a:ext cx="828036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500" spc="-1" strike="noStrike">
                <a:solidFill>
                  <a:srgbClr val="000000"/>
                </a:solidFill>
                <a:latin typeface="Arial"/>
              </a:rPr>
              <a:t>doscientos y uno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tres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268280"/>
            <a:ext cx="8280360" cy="1312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re do they talk Spanish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581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uatro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quin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seis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sete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ocho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581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nove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ent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mi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268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000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mill</a:t>
            </a:r>
            <a:r>
              <a:rPr b="1" lang="en-US" sz="100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268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00000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4581360"/>
            <a:ext cx="820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dos millo</a:t>
            </a:r>
            <a:r>
              <a:rPr b="1" lang="en-US" sz="10000" spc="-1" strike="noStrike">
                <a:solidFill>
                  <a:srgbClr val="000000"/>
                </a:solidFill>
                <a:latin typeface="Arial"/>
                <a:ea typeface="Arial"/>
              </a:rPr>
              <a:t>n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620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28640"/>
            <a:ext cx="15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357336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69228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400536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206064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157720"/>
            <a:ext cx="165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5084640"/>
            <a:ext cx="21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8360" y="2133720"/>
            <a:ext cx="21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37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66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20000" y="5589720"/>
            <a:ext cx="21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77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292428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18900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diez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Al escrib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63760" y="2781360"/>
            <a:ext cx="4581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vein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718080"/>
            <a:ext cx="7056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veint</a:t>
            </a:r>
            <a:r>
              <a:rPr b="1" lang="cy-GB" sz="10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nco etc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260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Arial"/>
              </a:rPr>
              <a:t>BUT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4581360"/>
            <a:ext cx="532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trei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718080"/>
            <a:ext cx="7056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treinta y d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60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5000" spc="-1" strike="noStrike">
                <a:solidFill>
                  <a:srgbClr val="000000"/>
                </a:solidFill>
                <a:latin typeface="Arial"/>
              </a:rPr>
              <a:t>BUT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581360"/>
            <a:ext cx="612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uar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2360" y="1268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581360"/>
            <a:ext cx="612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0000" spc="-1" strike="noStrike">
                <a:solidFill>
                  <a:srgbClr val="000000"/>
                </a:solidFill>
                <a:latin typeface="Arial"/>
              </a:rPr>
              <a:t>cincuen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2:07:19Z</dcterms:created>
  <dc:creator>Chris Fuller</dc:creator>
  <dc:description/>
  <dc:language>en-US</dc:language>
  <cp:lastModifiedBy>cfuller</cp:lastModifiedBy>
  <dcterms:modified xsi:type="dcterms:W3CDTF">2009-06-23T11:43:51Z</dcterms:modified>
  <cp:revision>4</cp:revision>
  <dc:subject/>
  <dc:title>Slide 1</dc:title>
</cp:coreProperties>
</file>